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48.jpeg" ContentType="image/jpeg"/>
  <Override PartName="/ppt/media/image35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5.png" ContentType="image/png"/>
  <Override PartName="/ppt/media/image54.wmf" ContentType="image/x-wmf"/>
  <Override PartName="/ppt/media/image14.png" ContentType="image/png"/>
  <Override PartName="/ppt/media/image10.jpeg" ContentType="image/jpeg"/>
  <Override PartName="/ppt/media/image17.wmf" ContentType="image/x-wmf"/>
  <Override PartName="/ppt/media/image56.png" ContentType="image/png"/>
  <Override PartName="/ppt/media/image47.jpeg" ContentType="image/jpeg"/>
  <Override PartName="/ppt/media/image18.wmf" ContentType="image/x-wmf"/>
  <Override PartName="/ppt/media/image6.wmf" ContentType="image/x-wmf"/>
  <Override PartName="/ppt/media/laser.wav" ContentType="audio/x-wav"/>
  <Override PartName="/ppt/media/image25.png" ContentType="image/png"/>
  <Override PartName="/ppt/media/image29.png" ContentType="image/png"/>
  <Override PartName="/ppt/media/image32.wmf" ContentType="image/x-wmf"/>
  <Override PartName="/ppt/media/image2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58.jpeg" ContentType="image/jpeg"/>
  <Override PartName="/ppt/media/image57.jpeg" ContentType="image/jpeg"/>
  <Override PartName="/ppt/media/image42.jpeg" ContentType="image/jpeg"/>
  <Override PartName="/ppt/media/image59.jpeg" ContentType="image/jpeg"/>
  <Override PartName="/ppt/media/camera.wav" ContentType="audio/x-wav"/>
  <Override PartName="/ppt/media/image22.png" ContentType="image/png"/>
  <Override PartName="/ppt/media/image11.wmf" ContentType="image/x-wmf"/>
  <Override PartName="/ppt/media/image50.png" ContentType="image/png"/>
  <Override PartName="/ppt/media/image3.png" ContentType="image/png"/>
  <Override PartName="/ppt/media/image15.png" ContentType="image/png"/>
  <Override PartName="/ppt/media/image55.png" ContentType="image/png"/>
  <Override PartName="/ppt/media/image20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19.wmf" ContentType="image/x-wmf"/>
  <Override PartName="/ppt/media/image7.wmf" ContentType="image/x-wmf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carbrake.wav" ContentType="audio/x-wav"/>
  <Override PartName="/ppt/media/type.wav" ContentType="audio/x-wav"/>
  <Override PartName="/ppt/media/image9.wmf" ContentType="image/x-wmf"/>
  <Override PartName="/ppt/media/image39.wmf" ContentType="image/x-wmf"/>
  <Override PartName="/ppt/media/image26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28.png" ContentType="image/png"/>
  <Override PartName="/ppt/media/image31.wmf" ContentType="image/x-wmf"/>
  <Override PartName="/ppt/media/image34.wmf" ContentType="image/x-wmf"/>
  <Override PartName="/ppt/media/image36.png" ContentType="image/png"/>
  <Override PartName="/ppt/media/image23.wmf" ContentType="image/x-wmf"/>
  <Override PartName="/ppt/media/image41.jpeg" ContentType="image/jpeg"/>
  <Override PartName="/ppt/media/image13.png" ContentType="image/png"/>
  <Override PartName="/ppt/media/image1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BCB4-6533-4E3A-AFA5-B7D34CB097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4411-098B-4F73-A9F2-173254ADC91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C2D4-9EF1-4AC9-B649-0E49E8A9953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EF2-4F54-417C-A761-A3646C277C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45D-CDDA-477F-88E5-C86D351B43C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707-4108-4574-BB2F-F8B3073F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0E5-CE18-403D-AEB3-CDE7DF3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605-9536-47AA-9C27-F5713E09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920-D6B9-4836-B85A-22A83F7B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07AB-06FA-472E-B2D2-64A5E0AB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11BB-17C7-4A16-ABF8-1AA33EE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E701-8115-4307-BEE1-7CD154D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555B-380C-41B2-ACA6-F0F99F0B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A7F1-248F-414B-A345-2F23A02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767-90BC-40BE-84A8-431460B4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D95-44DE-477F-8E80-4B2E05FB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A1D-7B4C-412E-B417-E0CC47B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5F3-2B21-48F7-BD42-2A49DF7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7A8-DD75-43DF-A1EA-1C32AD79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8B9-6326-434B-80D1-753BAFC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318A-CD73-45FD-B1B1-6516BDF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AF9B-5A9B-4844-9FA3-4BE97D33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2D2-7575-4AC4-B1BE-7CEF53CF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D2C-E577-466F-9957-39FEA45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E76-9055-4828-AAC0-61A21FF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4A6-6A8A-4285-B7A6-164D60AE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D77-CF44-4570-8316-E3DEC91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FA1-A913-469F-AB88-1E54CA56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CA3-4B4B-4BE5-BA8B-0896D80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F86-019D-4083-9DB2-0EDF5C88528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3D4-AB4D-469C-8E2B-625DA45C3AF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1341360"/>
            <a:ext cx="710748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...ach ten procent </a:t>
            </a:r>
            <a:endParaRPr b="0" lang="en-US" sz="96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99736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009999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l-PL" sz="3200" spc="-1" strike="noStrike">
                <a:solidFill>
                  <a:srgbClr val="221304"/>
                </a:solidFill>
                <a:latin typeface="Times New Roman"/>
              </a:rPr>
              <a:t>Opracowała: mgr Emilia Pawłow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7BC4-BF98-42EE-B570-C377196FF99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A80-87FF-4624-AF64-75B390C87664}" type="slidenum">
              <a:t>10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1566720" cy="153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87280" y="155736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                               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Czy każdy ułamek w postaci zwykłej da się rozszerzyć do mianownika 10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D4C-25A6-426C-A8BC-C4F07C7F6673}" type="slidenum">
              <a:t>11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F36-3D06-46FA-88A0-1E3FA1390A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40360" y="90792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Aby liczbę zamienić na procent, należ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tę liczbę pomnożyć przez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i dopisać symbol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F2E-B824-4699-BDEC-886C8EAE4D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0E8-6E42-466A-91EC-C85CF5F8A3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52F-B843-4699-B9EA-38A5B9E300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A15-5913-4731-A94A-4D3DFED800E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C03-755D-4A5A-872A-E3AF1BB05A2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4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045-B8FE-43DE-8E39-F76EE8B007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76520"/>
            <a:ext cx="7772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Diagram to po grecku znaczy wykres. Na diagramie można pokazać nie tylko podział na części  i udział tych części w całości. Diagramem wygodnie jest, również zilustrować rozkład wyników przeprowadzonego doświadczenia, wyników ankiety, porównać częstość występowania pewnego zdarzenia w różnych środowisk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prostoką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4952880"/>
            <a:ext cx="10666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4952880"/>
            <a:ext cx="12952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5334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4292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4876920"/>
            <a:ext cx="45720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257800"/>
            <a:ext cx="45720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56272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486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4292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słup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9D7-ABA3-4457-827F-9A6C630F99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Pojęcie procentu. Zamiana procentu na ułam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     </a:t>
            </a: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i odwrot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dczytywanie diagramów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 procentu danej liczby i liczby, gdy dany jest jej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, jakim procentem jednej liczby jest druga licz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Wykorzystanie kalkulatora do obliczeń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74B-BA6D-471D-A5B3-3CAD2198A9F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08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21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27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33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39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45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51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57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63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275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287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299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11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17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23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11280" y="4005360"/>
          <a:ext cx="496908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05360"/>
                    <a:ext cx="49690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A49-2624-43CF-83FB-78D3D101F953}" type="slidenum">
              <a:t>2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835280" y="2924280"/>
          <a:ext cx="601956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24280"/>
                    <a:ext cx="6019560" cy="3147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2D7-30A0-4AD2-840E-B68374B4A811}" type="slidenum">
              <a:t>21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48A-5174-4798-A4D1-13081435C2A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331280" y="3357720"/>
            <a:ext cx="6525360" cy="2806560"/>
            <a:chOff x="1331280" y="3357720"/>
            <a:chExt cx="6525360" cy="2806560"/>
          </a:xfrm>
        </p:grpSpPr>
        <p:sp>
          <p:nvSpPr>
            <p:cNvPr id="353" name=""/>
            <p:cNvSpPr/>
            <p:nvPr/>
          </p:nvSpPr>
          <p:spPr>
            <a:xfrm>
              <a:off x="1331280" y="335772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632560" y="3757680"/>
              <a:ext cx="2224080" cy="397440"/>
              <a:chOff x="5632560" y="3757680"/>
              <a:chExt cx="2224080" cy="397440"/>
            </a:xfrm>
          </p:grpSpPr>
          <p:sp>
            <p:nvSpPr>
              <p:cNvPr id="355" name=""/>
              <p:cNvSpPr/>
              <p:nvPr/>
            </p:nvSpPr>
            <p:spPr>
              <a:xfrm>
                <a:off x="5995080" y="375768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32560" y="383400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03600" y="3827520"/>
              <a:ext cx="4743720" cy="2336760"/>
              <a:chOff x="2703600" y="3827520"/>
              <a:chExt cx="4743720" cy="23367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703600" y="3827520"/>
                <a:ext cx="2320920" cy="2336760"/>
                <a:chOff x="2703600" y="3827520"/>
                <a:chExt cx="2320920" cy="23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4038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68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1701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703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372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5705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038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370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036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36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038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368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01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703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372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5705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038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370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036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036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038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9368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701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03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372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705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038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370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7036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1036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038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9368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701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8703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372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5705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38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370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036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036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4038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9368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701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8703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372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705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038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370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36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036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038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9368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1701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703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372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05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8038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6370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036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1036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038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368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701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72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705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038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370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036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036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4038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368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701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372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05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038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370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7036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036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4038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368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701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8703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3372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705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038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6370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7036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1036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038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9368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1701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03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372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705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8038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6370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036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36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5632560" y="4305600"/>
                <a:ext cx="1814760" cy="397440"/>
                <a:chOff x="5632560" y="4305600"/>
                <a:chExt cx="1814760" cy="39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632560" y="438228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94360" y="430560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632560" y="4775760"/>
                <a:ext cx="1433880" cy="397440"/>
                <a:chOff x="5632560" y="4775760"/>
                <a:chExt cx="1433880" cy="397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632560" y="485244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18400" y="477576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379-C34D-429A-847E-AD8F61684352}" type="slidenum">
              <a:t>2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3A2-B7E4-4A72-A2C6-418AB78E69A0}" type="slidenum">
              <a:t>2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932360" y="328464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042920" y="4869000"/>
            <a:ext cx="4627800" cy="164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C4C-7C90-4C1E-85D8-9CAA35258F9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89744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3AA-27F3-45D3-AB29-65B1D5DF0F8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DE6-8136-4E49-B7F7-0FB1B7478C78}" type="slidenum">
              <a:t>27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7C6-2378-4208-ACBE-4D1CB116AE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A6B-B0E2-4E5D-B639-FFCEC6071C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w życiu codziennym, mają ułamki dziesiętne o mianowniku 100. Ułamki te nazywają się procent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2800"/>
            </a:b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1700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92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57336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724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3C2-F976-4F25-B705-E149F230EB69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7CA-5651-464B-AEFD-454519F76A0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2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784-C560-461E-805E-5646314FDC5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zamieniamy </a:t>
            </a:r>
            <a:r>
              <a:rPr b="1" i="1" lang="pl-PL" sz="3200" spc="-1" strike="noStrike">
                <a:solidFill>
                  <a:srgbClr val="ff0000"/>
                </a:solidFill>
                <a:latin typeface="Times New Roman"/>
              </a:rPr>
              <a:t>procent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 na uła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ułamek mnożymy przez liczb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37432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B7B-66F0-4B67-9FA5-7B4F4843489D}" type="slidenum">
              <a:t>32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3860640"/>
            <a:ext cx="4572000" cy="15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3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A3A-10FE-4C1A-9C96-32B74D17B75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692280"/>
            <a:ext cx="4572000" cy="41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99D-EE2A-413A-9DAD-484CF311C35F}" type="slidenum">
              <a:t>34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 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40%  </a:t>
            </a:r>
            <a:r>
              <a:rPr b="1" i="1" lang="pl-PL" sz="2400" spc="-1" strike="noStrike" baseline="30000">
                <a:solidFill>
                  <a:srgbClr val="000000"/>
                </a:solidFill>
                <a:latin typeface="Monotype Corsiva"/>
              </a:rPr>
              <a:t>.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 = 12   - ilość dziewczą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-12=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18 chłopc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46530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672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4A3-1EAB-47C3-8788-9F53594B9D17}" type="slidenum">
              <a:t>35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W chórze 8 osób śpiewało basem, a o 25% więcej osób śpiewało al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Ile osób śpiewało al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</a:t>
            </a:r>
            <a:r>
              <a:rPr b="0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10040" cy="17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143000" y="4191120"/>
                <a:ext cx="1447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429000" y="4191120"/>
                <a:ext cx="2057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1143000" y="5334120"/>
            <a:ext cx="38862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	</a:t>
            </a: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Altem śpiewało 1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461-9E67-4457-AEAC-931EFBFB6EF6}" type="slidenum">
              <a:t>3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bliczanie liczby gdy dany jest jej proc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Łatwo jest obliczyć liczbę, gdy znamy jej 50%, 25% czy 10%. Cała liczba to przecież 100%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50% procent liczby wynosi 6, to cała liczba jest dwa razy większa, czyli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25% liczby to 7, wówczas szukaną liczbę obliczamy wykonując mnożenie 7 · 4 = 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Liczba, której 10% wynosi 3, wówczas szukana liczba jest dziesięć razy większa, czyli 30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D6B-1E2E-4B0B-ADEB-3420E0B8B080}" type="slidenum">
              <a:t>37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F39-5062-4BB3-8C4B-074FA49E423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86240" y="3141720"/>
            <a:ext cx="609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BC7-66D7-4A3E-9F7C-3A8A0A65B2C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DF6-3A2A-4995-9FD1-8F9856BF1F96}" type="slidenum">
              <a:t>4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8960" y="1628640"/>
            <a:ext cx="5391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A93-F621-46F4-9DE1-39CAD935418A}" type="slidenum">
              <a:t>40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sekcji sportowej 18 mężczyzn ćwiczyło  codziennie gimnastykę artystyczną. Stanowili oni 90% tej sekcji. Ile osób liczyła sekcja sportow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18 : 90%=18 : 0,9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31800" cy="2649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16000" y="4869000"/>
            <a:ext cx="525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Do sekcji sportowej należało 2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341-14B8-444A-A4B6-BCA79201A699}" type="slidenum">
              <a:t>41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ułamkiem I liczby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procentem liczby I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365760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8640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26640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98E-9328-46D7-B51A-88DFC61B65DD}" type="slidenum">
              <a:t>42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4728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5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B47-0FF7-4D0A-85BC-2F0B4CFEAF1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960-B1F1-470C-87DF-9D9DE04175E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671-8C0F-4E6D-8564-A673CEF6340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7FC-4B51-4B57-8BFD-A69E1FEDF085}" type="slidenum">
              <a:t>46</a:t>
            </a:fld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D04-9650-4262-824F-FBEDC66F6FD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06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70828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7AC-3931-43AC-B84A-CB0C93E76616}" type="slidenum">
              <a:t>4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1BA-850E-4456-A512-BBDDD0D1DE5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56000" y="119700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 flipV="1">
            <a:off x="1619280" y="105264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692360" y="270792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195640" y="501300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500360" y="907560"/>
            <a:ext cx="4316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76500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4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492280"/>
            <a:ext cx="792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4724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11E-C167-4288-8F6A-9A820B606BD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9CF-A52B-47B4-9C7C-BEA51DECD892}" type="slidenum">
              <a:t>50</a:t>
            </a:fld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3975120" cy="29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19D-A68E-4C1A-B294-86718C71DD9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A9E-E7A6-4343-81AD-927151F74AB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9A5-E508-4736-ADC5-51035A7EC10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24080" y="2997360"/>
            <a:ext cx="5726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.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B4C-63AA-4D69-874C-B5E9C222825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FCC-BEA0-4417-930F-423E7BC91AA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łaszcz kosztował 280zł. Ile kosztuje ten płaszcz po 30% obniż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siążka, która kosztowała 36 zł, podrożała o 15%. Ile kosztuje tera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wer kosztował 540 zł. Po obniżce kosztuje 459zł. O ile procent obniżono cen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16360" y="692280"/>
            <a:ext cx="2592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4F8-EE85-4E23-B98D-B1400C73B01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09640" cy="2578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C46-7A01-43FE-9AC9-D825E7C1578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unkt procentow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Pojęcia punkt procentowy używamy, gdy zmienia się jakaś wielkość określona w procentach. Na przykład, jeśli  oprocentowanie w banku wynosiło 18 % i zmniejszyło się do 16%, to mówimy, że zmalało o 2 punkty procent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27356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33E-60A3-4825-B9E6-8E077B8CE95C}" type="slidenum">
              <a:t>58</a:t>
            </a:fld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4FD-0293-4E1C-A5FA-5A7D0124035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Procenty definicja.svg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5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199-30CF-487F-A421-B668B0EBE8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E58-2547-435D-A701-45FA6DBBD3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1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F3C-BDD3-4D61-ACE8-86D9058990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595520" cy="249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2895480"/>
            <a:ext cx="3143160" cy="1973520"/>
          </a:xfrm>
          <a:prstGeom prst="wedgeRoundRectCallout">
            <a:avLst>
              <a:gd name="adj1" fmla="val 67777"/>
              <a:gd name="adj2" fmla="val -360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43200" y="4800600"/>
          <a:ext cx="266688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4800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429000" y="5562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86400" y="4800600"/>
          <a:ext cx="228600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2860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199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257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8A8-7173-4B24-AC52-0C28B93DA140}" type="slidenum">
              <a:t>9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3-03-14T19:03:40Z</dcterms:modified>
  <cp:revision>122</cp:revision>
  <dc:subject/>
  <dc:title>Prezentacja programu PowerPoint</dc:title>
</cp:coreProperties>
</file>